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449E5-D891-4F37-99AC-F70A8A2CA7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268E8-380C-445F-93DE-078CB6564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128D3-B682-4914-B752-B202BF8EF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BA34B-D4E1-4373-B799-A25EEA888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0FB62-6407-42E7-AE84-915333BBC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3C326-627F-4262-A032-AD669E25C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Rectangle 5"/>
          <p:cNvSpPr/>
          <p:nvPr/>
        </p:nvSpPr>
        <p:spPr>
          <a:xfrm>
            <a:off x="3649680" y="5334120"/>
            <a:ext cx="195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FE3FA-CBE8-4893-9BEC-109B8936E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Text Box 4"/>
          <p:cNvSpPr/>
          <p:nvPr/>
        </p:nvSpPr>
        <p:spPr>
          <a:xfrm>
            <a:off x="1120680" y="4892760"/>
            <a:ext cx="1969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A3A8A-1887-4EFD-8BCD-250DA85E1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Rectangle 5"/>
          <p:cNvSpPr/>
          <p:nvPr/>
        </p:nvSpPr>
        <p:spPr>
          <a:xfrm>
            <a:off x="3649680" y="5334120"/>
            <a:ext cx="195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985B1-979B-4F06-B852-AC234C256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8C3BE-951E-4B4A-A6FC-8EF31B69E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362DF-0988-45FB-BBB9-F7CDEC0E8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F6621-1EF2-4557-A19C-997AD304D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E6B5C-CA24-4884-BEC4-05E191574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3256F-02D2-49DA-A0FA-CA304F27F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Rectangle 5"/>
          <p:cNvSpPr/>
          <p:nvPr/>
        </p:nvSpPr>
        <p:spPr>
          <a:xfrm>
            <a:off x="3649680" y="5334120"/>
            <a:ext cx="195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5C878-C876-408F-9D38-61061AA15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3149F-5200-431A-B627-81D03A993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Text Box 4"/>
          <p:cNvSpPr/>
          <p:nvPr/>
        </p:nvSpPr>
        <p:spPr>
          <a:xfrm>
            <a:off x="1284120" y="4892760"/>
            <a:ext cx="1954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80C87-68C6-40F9-A7D0-267FF7858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Text Box 4"/>
          <p:cNvSpPr/>
          <p:nvPr/>
        </p:nvSpPr>
        <p:spPr>
          <a:xfrm>
            <a:off x="1544760" y="4960800"/>
            <a:ext cx="19656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5.jpeg"/><Relationship Id="rId15" Type="http://schemas.openxmlformats.org/officeDocument/2006/relationships/image" Target="../media/image4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<Relationship Id="rId20" Type="http://schemas.openxmlformats.org/officeDocument/2006/relationships/slideLayout" Target="../slideLayouts/slideLayout2.xml"/><Relationship Id="rId21" Type="http://schemas.openxmlformats.org/officeDocument/2006/relationships/slideLayout" Target="../slideLayouts/slideLayout3.xml"/><Relationship Id="rId22" Type="http://schemas.openxmlformats.org/officeDocument/2006/relationships/slideLayout" Target="../slideLayouts/slideLayout4.xml"/><Relationship Id="rId23" Type="http://schemas.openxmlformats.org/officeDocument/2006/relationships/slideLayout" Target="../slideLayouts/slideLayout5.xml"/><Relationship Id="rId24" Type="http://schemas.openxmlformats.org/officeDocument/2006/relationships/slideLayout" Target="../slideLayouts/slideLayout6.xml"/><Relationship Id="rId25" Type="http://schemas.openxmlformats.org/officeDocument/2006/relationships/slideLayout" Target="../slideLayouts/slideLayout7.xml"/><Relationship Id="rId26" Type="http://schemas.openxmlformats.org/officeDocument/2006/relationships/slideLayout" Target="../slideLayouts/slideLayout8.xml"/><Relationship Id="rId27" Type="http://schemas.openxmlformats.org/officeDocument/2006/relationships/slideLayout" Target="../slideLayouts/slideLayout9.xml"/><Relationship Id="rId28" Type="http://schemas.openxmlformats.org/officeDocument/2006/relationships/slideLayout" Target="../slideLayouts/slideLayout10.xml"/><Relationship Id="rId29" Type="http://schemas.openxmlformats.org/officeDocument/2006/relationships/slideLayout" Target="../slideLayouts/slideLayout11.xml"/><Relationship Id="rId3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5.jpeg"/><Relationship Id="rId15" Type="http://schemas.openxmlformats.org/officeDocument/2006/relationships/image" Target="../media/image4.png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bttn_prev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bttn_exi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bttn_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3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USH.png"/>
          <p:cNvPicPr/>
          <p:nvPr/>
        </p:nvPicPr>
        <p:blipFill>
          <a:blip r:embed="rId5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sp>
        <p:nvSpPr>
          <p:cNvPr id="5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echnology and Industri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0" descr="USH.png"/>
          <p:cNvPicPr/>
          <p:nvPr/>
        </p:nvPicPr>
        <p:blipFill>
          <a:blip r:embed="rId6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3" descr="bttn_prev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8099280" y="6512040"/>
            <a:ext cx="357480" cy="26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4" descr="bttn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8" descr="bttn_next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54064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3" descr="bttn_prev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4" descr="bttn_exit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8" descr="bttn_next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13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9" descr="USH.png"/>
          <p:cNvPicPr/>
          <p:nvPr/>
        </p:nvPicPr>
        <p:blipFill>
          <a:blip r:embed="rId13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14" descr="PE_PP_background3.jpg"/>
          <p:cNvPicPr/>
          <p:nvPr/>
        </p:nvPicPr>
        <p:blipFill>
          <a:blip r:embed="rId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" name="Text Box 18"/>
          <p:cNvSpPr/>
          <p:nvPr/>
        </p:nvSpPr>
        <p:spPr>
          <a:xfrm>
            <a:off x="201960" y="39528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he New Immigr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Picture 20" descr="USH.png"/>
          <p:cNvPicPr/>
          <p:nvPr/>
        </p:nvPicPr>
        <p:blipFill>
          <a:blip r:embed="rId15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19" name="Picture 3" descr="bttn_prev">
            <a:hlinkClick r:id="" action="ppaction://hlinkshowjump?jump=previousslide"/>
          </p:cNvPr>
          <p:cNvPicPr/>
          <p:nvPr/>
        </p:nvPicPr>
        <p:blipFill>
          <a:blip r:embed="rId16"/>
          <a:stretch/>
        </p:blipFill>
        <p:spPr>
          <a:xfrm>
            <a:off x="8099280" y="6512040"/>
            <a:ext cx="357480" cy="263520"/>
          </a:xfrm>
          <a:prstGeom prst="rect">
            <a:avLst/>
          </a:prstGeom>
          <a:ln w="0">
            <a:noFill/>
          </a:ln>
        </p:spPr>
      </p:pic>
      <p:pic>
        <p:nvPicPr>
          <p:cNvPr id="20" name="Picture 4" descr="bttn_exit">
            <a:hlinkClick r:id="" action="ppaction://hlinkshowjump?jump=endshow"/>
          </p:cNvPr>
          <p:cNvPicPr/>
          <p:nvPr/>
        </p:nvPicPr>
        <p:blipFill>
          <a:blip r:embed="rId17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21" name="Picture 8" descr="bttn_next">
            <a:hlinkClick r:id="" action="ppaction://hlinkshowjump?jump=nextslide"/>
          </p:cNvPr>
          <p:cNvPicPr/>
          <p:nvPr/>
        </p:nvPicPr>
        <p:blipFill>
          <a:blip r:embed="rId18"/>
          <a:stretch/>
        </p:blipFill>
        <p:spPr>
          <a:xfrm>
            <a:off x="8532720" y="6518160"/>
            <a:ext cx="357120" cy="2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9"/>
    <p:sldLayoutId id="2147483650" r:id="rId20"/>
    <p:sldLayoutId id="2147483651" r:id="rId21"/>
    <p:sldLayoutId id="2147483652" r:id="rId22"/>
    <p:sldLayoutId id="2147483653" r:id="rId23"/>
    <p:sldLayoutId id="2147483654" r:id="rId24"/>
    <p:sldLayoutId id="2147483655" r:id="rId25"/>
    <p:sldLayoutId id="2147483656" r:id="rId26"/>
    <p:sldLayoutId id="2147483657" r:id="rId27"/>
    <p:sldLayoutId id="2147483658" r:id="rId28"/>
    <p:sldLayoutId id="2147483659" r:id="rId29"/>
    <p:sldLayoutId id="2147483660" r:id="rId3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bttn_prev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bttn_exi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bttn_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USH.png"/>
          <p:cNvPicPr/>
          <p:nvPr/>
        </p:nvPicPr>
        <p:blipFill>
          <a:blip r:embed="rId5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echnology and Industri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0" descr="USH.png"/>
          <p:cNvPicPr/>
          <p:nvPr/>
        </p:nvPicPr>
        <p:blipFill>
          <a:blip r:embed="rId6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bttn_prev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8099280" y="6512040"/>
            <a:ext cx="357480" cy="263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bttn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bttn_next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54064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bttn_prev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8253360" y="651204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bttn_exit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764388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bttn_next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8694720" y="6512040"/>
            <a:ext cx="357120" cy="2635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228600" y="650556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f1ff"/>
                </a:solidFill>
                <a:latin typeface="Arial"/>
              </a:rPr>
              <a:t>The Cold War Be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USH.png"/>
          <p:cNvPicPr/>
          <p:nvPr/>
        </p:nvPicPr>
        <p:blipFill>
          <a:blip r:embed="rId13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PE_PP_background3.jpg"/>
          <p:cNvPicPr/>
          <p:nvPr/>
        </p:nvPicPr>
        <p:blipFill>
          <a:blip r:embed="rId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8"/>
          <p:cNvSpPr/>
          <p:nvPr/>
        </p:nvSpPr>
        <p:spPr>
          <a:xfrm>
            <a:off x="201960" y="39528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cb4"/>
                </a:solidFill>
                <a:latin typeface="Arial"/>
              </a:rPr>
              <a:t>Section</a:t>
            </a:r>
            <a:r>
              <a:rPr b="1" lang="en-US" sz="1600" spc="-1" strike="noStrike">
                <a:solidFill>
                  <a:srgbClr val="003cb4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0" y="6505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3f1ff"/>
                </a:solidFill>
                <a:latin typeface="Arial"/>
              </a:rPr>
              <a:t>The New Immigr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0" descr="USH.png"/>
          <p:cNvPicPr/>
          <p:nvPr/>
        </p:nvPicPr>
        <p:blipFill>
          <a:blip r:embed="rId15"/>
          <a:stretch/>
        </p:blipFill>
        <p:spPr>
          <a:xfrm>
            <a:off x="228600" y="200160"/>
            <a:ext cx="2352600" cy="342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bttn_exit">
            <a:hlinkClick r:id="" action="ppaction://hlinkshowjump?jump=endshow"/>
          </p:cNvPr>
          <p:cNvPicPr/>
          <p:nvPr/>
        </p:nvPicPr>
        <p:blipFill>
          <a:blip r:embed="rId16"/>
          <a:stretch/>
        </p:blipFill>
        <p:spPr>
          <a:xfrm>
            <a:off x="7489800" y="6510240"/>
            <a:ext cx="357120" cy="266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bttn_next">
            <a:hlinkClick r:id="" action="ppaction://hlinkshowjump?jump=nextslide"/>
          </p:cNvPr>
          <p:cNvPicPr/>
          <p:nvPr/>
        </p:nvPicPr>
        <p:blipFill>
          <a:blip r:embed="rId17"/>
          <a:stretch/>
        </p:blipFill>
        <p:spPr>
          <a:xfrm>
            <a:off x="8532720" y="6518160"/>
            <a:ext cx="357120" cy="2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9"/>
          <p:cNvSpPr/>
          <p:nvPr/>
        </p:nvSpPr>
        <p:spPr>
          <a:xfrm>
            <a:off x="838080" y="1828800"/>
            <a:ext cx="74678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are the “new immigration” of the late 1800s to earlier immig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lain the push and pull factors leading immigrants to Ame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cribe the challenges that immigrants faced in traveling to Ame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how immigrants adapted to American life while trying to maintain familiar cultural practices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455760" y="11415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3" descr="StatueofLiberty2"/>
          <p:cNvPicPr/>
          <p:nvPr/>
        </p:nvPicPr>
        <p:blipFill>
          <a:blip r:embed="rId1"/>
          <a:stretch/>
        </p:blipFill>
        <p:spPr>
          <a:xfrm>
            <a:off x="380880" y="685800"/>
            <a:ext cx="1851120" cy="3962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2666880" y="320040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re, officers conducted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 legal and medical inspections.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2 percent were denied entry into the U.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1828800" y="152388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the immigrants arrived after their long journeys, they were processed at stations such as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Ellis Islan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New York Harb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914400" y="487692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inese and other Asian immigrants crossing the Pacific were processed at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Angel Islan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San Francisco Bay.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Many Chinese were turned aw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838080" y="1617840"/>
            <a:ext cx="2743200" cy="46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Chinese immigrants were detained at Angel Island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 for weeks or months in poor conditions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waited to see if they would be allowed to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tay in the U.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HSUS_ch14_S1_AngelIsland"/>
          <p:cNvPicPr/>
          <p:nvPr/>
        </p:nvPicPr>
        <p:blipFill>
          <a:blip r:embed="rId1"/>
          <a:stretch/>
        </p:blipFill>
        <p:spPr>
          <a:xfrm>
            <a:off x="3809880" y="1542960"/>
            <a:ext cx="4724640" cy="41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29"/>
          <p:cNvSpPr/>
          <p:nvPr/>
        </p:nvSpPr>
        <p:spPr>
          <a:xfrm>
            <a:off x="1066680" y="518148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arge cities such as New York and Chicago had huge immigrant populations by 189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762120" y="1752120"/>
            <a:ext cx="4266720" cy="2971800"/>
            <a:chOff x="762120" y="1752120"/>
            <a:chExt cx="4266720" cy="2971800"/>
          </a:xfrm>
        </p:grpSpPr>
        <p:sp>
          <p:nvSpPr>
            <p:cNvPr id="156" name="AutoShape 4"/>
            <p:cNvSpPr/>
            <p:nvPr/>
          </p:nvSpPr>
          <p:spPr>
            <a:xfrm flipH="1" rot="5400000">
              <a:off x="1409400" y="1104480"/>
              <a:ext cx="2971800" cy="4266720"/>
            </a:xfrm>
            <a:prstGeom prst="upArrowCallout">
              <a:avLst>
                <a:gd name="adj1" fmla="val 13418"/>
                <a:gd name="adj2" fmla="val 12500"/>
                <a:gd name="adj3" fmla="val 22726"/>
                <a:gd name="adj4" fmla="val 53315"/>
              </a:avLst>
            </a:prstGeom>
            <a:gradFill rotWithShape="0">
              <a:gsLst>
                <a:gs pos="0">
                  <a:srgbClr val="00b0f0">
                    <a:alpha val="50196"/>
                  </a:srgbClr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333399"/>
              </a:solidFill>
              <a:miter/>
            </a:ln>
            <a:effectLst>
              <a:outerShdw dist="53966" dir="2700000" blurRad="0" rotWithShape="0">
                <a:srgbClr val="adc793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840960" y="1999800"/>
              <a:ext cx="294624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Once in America, immigrants had to </a:t>
              </a:r>
              <a:r>
                <a:rPr b="0" lang="en-US" sz="2200" spc="-1" strike="noStrike">
                  <a:solidFill>
                    <a:srgbClr val="0033cc"/>
                  </a:solidFill>
                  <a:latin typeface="Verdana"/>
                </a:rPr>
                <a:t>find a home and work.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 They also had to </a:t>
              </a:r>
              <a:r>
                <a:rPr b="0" lang="en-US" sz="2200" spc="-1" strike="noStrike">
                  <a:solidFill>
                    <a:srgbClr val="0033cc"/>
                  </a:solidFill>
                  <a:latin typeface="Verdana"/>
                </a:rPr>
                <a:t>learn English and new customs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129"/>
          <p:cNvSpPr/>
          <p:nvPr/>
        </p:nvSpPr>
        <p:spPr>
          <a:xfrm>
            <a:off x="5410080" y="2241720"/>
            <a:ext cx="3124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y stayed in cities and took jobs in factories. They lived in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ethnic neighborhoods called ghetto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 flipH="1" rot="10792800">
            <a:off x="1060200" y="1520640"/>
            <a:ext cx="6933960" cy="1831680"/>
          </a:xfrm>
          <a:prstGeom prst="upArrowCallout">
            <a:avLst>
              <a:gd name="adj1" fmla="val 47079"/>
              <a:gd name="adj2" fmla="val 40029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ffffff"/>
              </a:gs>
            </a:gsLst>
            <a:lin ang="16194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9"/>
          <p:cNvSpPr/>
          <p:nvPr/>
        </p:nvSpPr>
        <p:spPr>
          <a:xfrm>
            <a:off x="1143000" y="160164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mmigrants had some help coping with their new surround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0"/>
          <p:cNvSpPr/>
          <p:nvPr/>
        </p:nvSpPr>
        <p:spPr>
          <a:xfrm>
            <a:off x="1066680" y="3657600"/>
            <a:ext cx="739152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ttlement houses ran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Americanizati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ams to help recent immigrants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learn English and adopt American dress and di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migrants form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fraternal association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ed on ethnic or religious ident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ich provid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ocial services and financial assist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3"/>
          <p:cNvGrpSpPr/>
          <p:nvPr/>
        </p:nvGrpSpPr>
        <p:grpSpPr>
          <a:xfrm>
            <a:off x="762120" y="1752480"/>
            <a:ext cx="4266720" cy="4053240"/>
            <a:chOff x="762120" y="1752480"/>
            <a:chExt cx="4266720" cy="4053240"/>
          </a:xfrm>
        </p:grpSpPr>
        <p:sp>
          <p:nvSpPr>
            <p:cNvPr id="163" name="AutoShape 4"/>
            <p:cNvSpPr/>
            <p:nvPr/>
          </p:nvSpPr>
          <p:spPr>
            <a:xfrm flipH="1" rot="5400000">
              <a:off x="1256760" y="1257480"/>
              <a:ext cx="3276720" cy="4266720"/>
            </a:xfrm>
            <a:prstGeom prst="upArrowCallout">
              <a:avLst>
                <a:gd name="adj1" fmla="val 13418"/>
                <a:gd name="adj2" fmla="val 12500"/>
                <a:gd name="adj3" fmla="val 20611"/>
                <a:gd name="adj4" fmla="val 53315"/>
              </a:avLst>
            </a:prstGeom>
            <a:gradFill rotWithShape="0">
              <a:gsLst>
                <a:gs pos="0">
                  <a:srgbClr val="00b0f0">
                    <a:alpha val="50196"/>
                  </a:srgbClr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333399"/>
              </a:solidFill>
              <a:miter/>
            </a:ln>
            <a:effectLst>
              <a:outerShdw dist="53966" dir="2700000" blurRad="0" rotWithShape="0">
                <a:srgbClr val="adc793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840960" y="2025000"/>
              <a:ext cx="2946240" cy="37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Many believed that American society was a </a:t>
              </a:r>
              <a:r>
                <a:rPr b="1" lang="en-US" sz="2200" spc="-1" strike="noStrike">
                  <a:solidFill>
                    <a:srgbClr val="ff0000"/>
                  </a:solidFill>
                  <a:latin typeface="Verdana"/>
                </a:rPr>
                <a:t>“melting pot”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 where </a:t>
              </a:r>
              <a:r>
                <a:rPr b="0" lang="en-US" sz="2200" spc="-1" strike="noStrike">
                  <a:solidFill>
                    <a:srgbClr val="0033cc"/>
                  </a:solidFill>
                  <a:latin typeface="Verdana"/>
                </a:rPr>
                <a:t>white people of different nationalities blended to create a single culture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129"/>
          <p:cNvSpPr/>
          <p:nvPr/>
        </p:nvSpPr>
        <p:spPr>
          <a:xfrm>
            <a:off x="5410080" y="2576520"/>
            <a:ext cx="3124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odel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excluded Asian immigrants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o became targets of social and legal discrimin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4919760" y="3789360"/>
            <a:ext cx="3124080" cy="1431000"/>
            <a:chOff x="4919760" y="3789360"/>
            <a:chExt cx="3124080" cy="1431000"/>
          </a:xfrm>
        </p:grpSpPr>
        <p:sp>
          <p:nvSpPr>
            <p:cNvPr id="167" name="Rectangle 3"/>
            <p:cNvSpPr/>
            <p:nvPr/>
          </p:nvSpPr>
          <p:spPr>
            <a:xfrm>
              <a:off x="4919760" y="3789360"/>
              <a:ext cx="3124080" cy="139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d273"/>
                </a:gs>
              </a:gsLst>
              <a:lin ang="5400000"/>
            </a:gradFill>
            <a:ln w="12600">
              <a:solidFill>
                <a:srgbClr val="666699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1"/>
            <p:cNvSpPr/>
            <p:nvPr/>
          </p:nvSpPr>
          <p:spPr>
            <a:xfrm>
              <a:off x="4995720" y="3906720"/>
              <a:ext cx="2971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mmigrants’ children, however, </a:t>
              </a: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became more Americanize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13"/>
          <p:cNvGrpSpPr/>
          <p:nvPr/>
        </p:nvGrpSpPr>
        <p:grpSpPr>
          <a:xfrm>
            <a:off x="1109520" y="3789360"/>
            <a:ext cx="3962520" cy="2367360"/>
            <a:chOff x="1109520" y="3789360"/>
            <a:chExt cx="3962520" cy="2367360"/>
          </a:xfrm>
        </p:grpSpPr>
        <p:sp>
          <p:nvSpPr>
            <p:cNvPr id="170" name="AutoShape 5"/>
            <p:cNvSpPr/>
            <p:nvPr/>
          </p:nvSpPr>
          <p:spPr>
            <a:xfrm rot="16200000">
              <a:off x="4119480" y="4129200"/>
              <a:ext cx="914400" cy="990720"/>
            </a:xfrm>
            <a:prstGeom prst="downArrow">
              <a:avLst>
                <a:gd name="adj1" fmla="val 49741"/>
                <a:gd name="adj2" fmla="val 34209"/>
              </a:avLst>
            </a:prstGeom>
            <a:gradFill rotWithShape="0">
              <a:gsLst>
                <a:gs pos="0">
                  <a:srgbClr val="83d7e5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666699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6"/>
            <p:cNvGrpSpPr/>
            <p:nvPr/>
          </p:nvGrpSpPr>
          <p:grpSpPr>
            <a:xfrm>
              <a:off x="1109520" y="3789360"/>
              <a:ext cx="3124440" cy="2367360"/>
              <a:chOff x="1109520" y="3789360"/>
              <a:chExt cx="3124440" cy="2367360"/>
            </a:xfrm>
          </p:grpSpPr>
          <p:sp>
            <p:nvSpPr>
              <p:cNvPr id="172" name="Rectangle 7"/>
              <p:cNvSpPr/>
              <p:nvPr/>
            </p:nvSpPr>
            <p:spPr>
              <a:xfrm>
                <a:off x="1109520" y="3789360"/>
                <a:ext cx="3124440" cy="200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3d7e5"/>
                  </a:gs>
                </a:gsLst>
                <a:lin ang="5400000"/>
              </a:gradFill>
              <a:ln w="12600">
                <a:solidFill>
                  <a:srgbClr val="666699"/>
                </a:solidFill>
                <a:miter/>
              </a:ln>
              <a:effectLst>
                <a:outerShdw dist="53966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21"/>
              <p:cNvSpPr/>
              <p:nvPr/>
            </p:nvSpPr>
            <p:spPr>
              <a:xfrm>
                <a:off x="1200240" y="3928320"/>
                <a:ext cx="2957400" cy="22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They established their own </a:t>
                </a:r>
                <a:r>
                  <a:rPr b="0" lang="en-US" sz="2000" spc="-1" strike="noStrike">
                    <a:solidFill>
                      <a:srgbClr val="0033cc"/>
                    </a:solidFill>
                    <a:latin typeface="Verdana"/>
                  </a:rPr>
                  <a:t>fraternal lodges, schools, and religious institution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such as churches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AutoShape 9"/>
          <p:cNvSpPr/>
          <p:nvPr/>
        </p:nvSpPr>
        <p:spPr>
          <a:xfrm>
            <a:off x="2090880" y="2570040"/>
            <a:ext cx="914400" cy="1295640"/>
          </a:xfrm>
          <a:prstGeom prst="downArrow">
            <a:avLst>
              <a:gd name="adj1" fmla="val 50000"/>
              <a:gd name="adj2" fmla="val 35423"/>
            </a:avLst>
          </a:prstGeom>
          <a:gradFill rotWithShape="0">
            <a:gsLst>
              <a:gs pos="0">
                <a:srgbClr val="c9c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0"/>
          <p:cNvGrpSpPr/>
          <p:nvPr/>
        </p:nvGrpSpPr>
        <p:grpSpPr>
          <a:xfrm>
            <a:off x="1095480" y="1828800"/>
            <a:ext cx="6948360" cy="1077480"/>
            <a:chOff x="1095480" y="1828800"/>
            <a:chExt cx="6948360" cy="1077480"/>
          </a:xfrm>
        </p:grpSpPr>
        <p:sp>
          <p:nvSpPr>
            <p:cNvPr id="176" name="Rectangle 11"/>
            <p:cNvSpPr/>
            <p:nvPr/>
          </p:nvSpPr>
          <p:spPr>
            <a:xfrm>
              <a:off x="1095480" y="1828800"/>
              <a:ext cx="6948360" cy="93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ff"/>
                </a:gs>
              </a:gsLst>
              <a:lin ang="5400000"/>
            </a:gradFill>
            <a:ln w="12600">
              <a:solidFill>
                <a:srgbClr val="666699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1"/>
            <p:cNvSpPr/>
            <p:nvPr/>
          </p:nvSpPr>
          <p:spPr>
            <a:xfrm>
              <a:off x="1185840" y="1897560"/>
              <a:ext cx="6781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espite the hopes of settlement workers, immigrants often held on to their tradition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2"/>
          <p:cNvSpPr/>
          <p:nvPr/>
        </p:nvSpPr>
        <p:spPr>
          <a:xfrm>
            <a:off x="4952880" y="1752480"/>
            <a:ext cx="37339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migrants often dealt with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nativism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hostility from native-born white Americ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2" descr="HSUS_ch14_S1_ImmgrntWelcome"/>
          <p:cNvPicPr/>
          <p:nvPr/>
        </p:nvPicPr>
        <p:blipFill>
          <a:blip r:embed="rId1"/>
          <a:stretch/>
        </p:blipFill>
        <p:spPr>
          <a:xfrm>
            <a:off x="457200" y="1905120"/>
            <a:ext cx="4397400" cy="3622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80" name="Rectangle 22"/>
          <p:cNvSpPr/>
          <p:nvPr/>
        </p:nvSpPr>
        <p:spPr>
          <a:xfrm>
            <a:off x="4952880" y="4038480"/>
            <a:ext cx="37339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ligious differences 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etition for jobs and housing led to divisions and prejud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838080" y="2438280"/>
            <a:ext cx="7467840" cy="3353040"/>
          </a:xfrm>
          <a:prstGeom prst="rect">
            <a:avLst/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c9c9ff"/>
              </a:gs>
            </a:gsLst>
            <a:lin ang="0"/>
          </a:gradFill>
          <a:ln w="1908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38080" y="1219320"/>
          <a:ext cx="7467840" cy="761760"/>
        </p:xfrm>
        <a:graphic>
          <a:graphicData uri="http://schemas.openxmlformats.org/drawingml/2006/table">
            <a:tbl>
              <a:tblPr/>
              <a:tblGrid>
                <a:gridCol w="74678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1882, Congress started to restrict immigration to the United State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066680" y="2676600"/>
          <a:ext cx="6934320" cy="288612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193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>
                        <a:lnSpc>
                          <a:spcPct val="100000"/>
                        </a:lnSpc>
                        <a:spcAft>
                          <a:spcPts val="2801"/>
                        </a:spcAft>
                        <a:buClr>
                          <a:srgbClr val="000000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inese Exclusion Act 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prohibited immigration by Chinese laborers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limited the rights of Chinese immigrants in the U.S., and forbade the naturalization of Chinese residen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Aft>
                          <a:spcPts val="2801"/>
                        </a:spcAft>
                        <a:buClr>
                          <a:srgbClr val="000000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gress passed another law that prohibited the immigration of anyone who was 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 criminal, immoral, a pauper, or likely to need public assistanc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 flipH="1" rot="10792800">
            <a:off x="1058040" y="1294920"/>
            <a:ext cx="7093080" cy="1598760"/>
          </a:xfrm>
          <a:prstGeom prst="upArrowCallout">
            <a:avLst>
              <a:gd name="adj1" fmla="val 55175"/>
              <a:gd name="adj2" fmla="val 46913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ffffff"/>
              </a:gs>
            </a:gsLst>
            <a:lin ang="16194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9"/>
          <p:cNvSpPr/>
          <p:nvPr/>
        </p:nvSpPr>
        <p:spPr>
          <a:xfrm>
            <a:off x="1143000" y="1479600"/>
            <a:ext cx="701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mmigrants transformed American socie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0"/>
          <p:cNvSpPr/>
          <p:nvPr/>
        </p:nvSpPr>
        <p:spPr>
          <a:xfrm>
            <a:off x="1066680" y="3236760"/>
            <a:ext cx="739152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fueled industrial grow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help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build the railroad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worked in factories, mills, and mi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ir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tradition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came part of American cul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ingly, they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became active in labor unions and politics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hey demanded refor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9"/>
          <p:cNvSpPr/>
          <p:nvPr/>
        </p:nvSpPr>
        <p:spPr>
          <a:xfrm>
            <a:off x="455760" y="114300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838080" y="1828800"/>
            <a:ext cx="7696440" cy="50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587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new” immigra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outhern and Eastern European immigrant who arrived in the United States in a great wave between 1880 and 192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87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teerag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ird-class accommodations on a steamship, which were usually overcrowded and di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87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Ellis Isl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land in New York Harbor that served as an immigration station for millions of immigrants arriving to the United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87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Angel Isl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mmigrant processing station that opened in San Francisco Bay in 19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9"/>
          <p:cNvSpPr/>
          <p:nvPr/>
        </p:nvSpPr>
        <p:spPr>
          <a:xfrm>
            <a:off x="455760" y="11415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erms and Peopl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838080" y="1828800"/>
            <a:ext cx="776952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587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Americanizatio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lief that assimilating immigrants into American society would make them more loyal citiz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Aft>
                <a:spcPts val="1587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elting pot”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ociety in which people of different nationalities assimilate to form one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Aft>
                <a:spcPts val="1587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nativis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lief that native-born white Americans are superior to newc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Aft>
                <a:spcPts val="1587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Chinese Exclusion A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1882 law that prohibited immigration by Chinese labor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5" descr="ImmigrantLight"/>
          <p:cNvPicPr/>
          <p:nvPr/>
        </p:nvPicPr>
        <p:blipFill>
          <a:blip r:embed="rId1"/>
          <a:srcRect l="50624" t="1642" r="0" b="0"/>
          <a:stretch/>
        </p:blipFill>
        <p:spPr>
          <a:xfrm>
            <a:off x="0" y="4114800"/>
            <a:ext cx="1523880" cy="2286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2"/>
          <p:cNvSpPr/>
          <p:nvPr/>
        </p:nvSpPr>
        <p:spPr>
          <a:xfrm>
            <a:off x="1216080" y="17082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y did immigrants come to the United States, and what impact did they have upon socie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7" descr="ImmigrantDark"/>
          <p:cNvPicPr/>
          <p:nvPr/>
        </p:nvPicPr>
        <p:blipFill>
          <a:blip r:embed="rId2"/>
          <a:srcRect l="0" t="1642" r="37047" b="0"/>
          <a:stretch/>
        </p:blipFill>
        <p:spPr>
          <a:xfrm>
            <a:off x="7201080" y="4114800"/>
            <a:ext cx="1942920" cy="2286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2"/>
          <p:cNvSpPr/>
          <p:nvPr/>
        </p:nvSpPr>
        <p:spPr>
          <a:xfrm>
            <a:off x="1216080" y="3284640"/>
            <a:ext cx="6477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migrants came to the U.S. for religious and political freedom, for economic opportunities, and to escape wa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1216080" y="4770360"/>
            <a:ext cx="647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migrants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adopted parts of American culture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Americans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adopted parts of immigrant cult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HSUS09_EQ_logoSmall.jpg"/>
          <p:cNvPicPr/>
          <p:nvPr/>
        </p:nvPicPr>
        <p:blipFill>
          <a:blip r:embed="rId3"/>
          <a:stretch/>
        </p:blipFill>
        <p:spPr>
          <a:xfrm>
            <a:off x="457200" y="182880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 flipH="1" rot="10792800">
            <a:off x="1060200" y="1370880"/>
            <a:ext cx="6933960" cy="1832040"/>
          </a:xfrm>
          <a:prstGeom prst="upArrowCallout">
            <a:avLst>
              <a:gd name="adj1" fmla="val 47069"/>
              <a:gd name="adj2" fmla="val 40021"/>
              <a:gd name="adj3" fmla="val 24014"/>
              <a:gd name="adj4" fmla="val 93971"/>
            </a:avLst>
          </a:prstGeom>
          <a:gradFill rotWithShape="0">
            <a:gsLst>
              <a:gs pos="0">
                <a:srgbClr val="cdcdff"/>
              </a:gs>
              <a:gs pos="100000">
                <a:srgbClr val="ffffff"/>
              </a:gs>
            </a:gsLst>
            <a:lin ang="16194000"/>
          </a:gra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9"/>
          <p:cNvSpPr/>
          <p:nvPr/>
        </p:nvSpPr>
        <p:spPr>
          <a:xfrm>
            <a:off x="1143000" y="14526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foreign-born population of the U.S. nearly doubled between 1870 and 19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0"/>
          <p:cNvSpPr/>
          <p:nvPr/>
        </p:nvSpPr>
        <p:spPr>
          <a:xfrm>
            <a:off x="1066680" y="3505320"/>
            <a:ext cx="7304040" cy="35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the 1840s and 1950s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German and Irish Cathol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had immigrated to the United St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pite differences, their children were often able to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blend into American socie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starting in 1870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ome people feare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”new” immigra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ould destroy American cul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1666800"/>
            <a:ext cx="7467840" cy="45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9c9ff"/>
              </a:gs>
            </a:gsLst>
            <a:lin ang="0"/>
          </a:gradFill>
          <a:ln w="1908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38080" y="1143000"/>
          <a:ext cx="7467840" cy="533520"/>
        </p:xfrm>
        <a:graphic>
          <a:graphicData uri="http://schemas.openxmlformats.org/drawingml/2006/table">
            <a:tbl>
              <a:tblPr/>
              <a:tblGrid>
                <a:gridCol w="74678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d Immigrants and “New” Immigr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958680" y="1752480"/>
          <a:ext cx="7270920" cy="4408560"/>
        </p:xfrm>
        <a:graphic>
          <a:graphicData uri="http://schemas.openxmlformats.org/drawingml/2006/table">
            <a:tbl>
              <a:tblPr/>
              <a:tblGrid>
                <a:gridCol w="2181240"/>
                <a:gridCol w="5089680"/>
              </a:tblGrid>
              <a:tr h="252072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ld Immigrants (pre-1870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marL="236520" indent="-236520">
                        <a:lnSpc>
                          <a:spcPct val="100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re mainly Protestants from Northern and Western Eur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me as families to settle on farms with family members or friend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Had money, a skill or trade, or an edu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234252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New” Immigrants (post-1870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799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re mainly Catholics or Jews from Southern and Eastern Eur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799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times came alone, usually to settle in c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799"/>
                        </a:spcAft>
                        <a:buClr>
                          <a:srgbClr val="000000"/>
                        </a:buClr>
                        <a:buSzPct val="8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Were often poor and unski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8"/>
          <p:cNvSpPr/>
          <p:nvPr/>
        </p:nvSpPr>
        <p:spPr>
          <a:xfrm>
            <a:off x="5105520" y="2104920"/>
            <a:ext cx="3124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migrants to the United States from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Southern and Eastern Europ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de up 70 percent of all immigrants after 1900, up from 1 percent at midcentu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5" descr="HSUS_ch14_S1_ImgrtnChart"/>
          <p:cNvPicPr/>
          <p:nvPr/>
        </p:nvPicPr>
        <p:blipFill>
          <a:blip r:embed="rId1"/>
          <a:stretch/>
        </p:blipFill>
        <p:spPr>
          <a:xfrm>
            <a:off x="990720" y="1143000"/>
            <a:ext cx="35337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838080" y="2744640"/>
            <a:ext cx="7467840" cy="322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838080" y="1371600"/>
            <a:ext cx="74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Push fac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immigration are those that push people from their homes, whil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pull fac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re those that attract them to a new pl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52560" y="2743200"/>
          <a:ext cx="7238880" cy="3230640"/>
        </p:xfrm>
        <a:graphic>
          <a:graphicData uri="http://schemas.openxmlformats.org/drawingml/2006/table">
            <a:tbl>
              <a:tblPr/>
              <a:tblGrid>
                <a:gridCol w="3506760"/>
                <a:gridCol w="3732120"/>
              </a:tblGrid>
              <a:tr h="48816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Push Fac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Pull Fac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2805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rmers were pressured by land reform and low pri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U.S. offered plentiful land, employment, and opportun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olution and war disrupted economies and left political refuge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y “chain immigrants” already had family in the U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igious persecution forced many to flee violen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igrants could find religious and political freedom in Americ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9"/>
          <p:cNvSpPr/>
          <p:nvPr/>
        </p:nvSpPr>
        <p:spPr>
          <a:xfrm>
            <a:off x="762120" y="1447920"/>
            <a:ext cx="76197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ing to America was often a tough decision. Immigrants usually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brought only what they could car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raveled by steamship in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steerage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5" descr="HSUS_ch14_S1_Steerage"/>
          <p:cNvPicPr/>
          <p:nvPr/>
        </p:nvPicPr>
        <p:blipFill>
          <a:blip r:embed="rId1"/>
          <a:stretch/>
        </p:blipFill>
        <p:spPr>
          <a:xfrm>
            <a:off x="1467000" y="2895480"/>
            <a:ext cx="61722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Sheila Mason</cp:lastModifiedBy>
  <cp:lastPrinted>2008-05-21T18:42:16Z</cp:lastPrinted>
  <dcterms:modified xsi:type="dcterms:W3CDTF">2011-01-05T16:19:39Z</dcterms:modified>
  <cp:revision>218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